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THRA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82ADBA-319A-4AD8-8CBE-4AE7C6402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E0462E-877B-4C22-8C5F-CA3BD77F2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61F22E-5201-4416-B608-052552D2D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5B3EF6-B781-4508-9CF3-00B0044D1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EEF0A3-E670-4798-AD26-1135E237A8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7FBE3E-0EF7-4482-9CF5-F3C7C7AF7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9F28B9-12A6-4B1F-B76C-F653B8223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F5DA21-795D-49E6-8FBC-4E47F353BC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514289-AECC-457A-8762-E82F97A8A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65929F-27D6-4A2D-BE35-7BD269B02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BC4A91-ACBC-4E58-94B4-04D0A0CC0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7BF564-10D5-4D91-A8E9-6604F6273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F426F0-A834-47FE-A4E2-8CE2ED8C2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848AE6-0BB2-440C-9E17-B19D1114D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11A566-F2CE-49DE-97B9-B19BDD365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69172B-42B1-49AC-B65E-440300119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9D6E6E-E1B5-48FD-8D0E-F12C0E31E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11D208-65E7-4ED1-8731-6EA3E6D2A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833182-6E51-4012-AEB7-13CE88199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403EDC-7656-4BD8-9349-A45EB4A77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9528BB-3ECB-48DC-A3CD-C52E597AF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gs 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28659F-B83D-4BBE-8195-5E2878C6F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57ED0F-FF31-4175-81C5-F7C49044A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genome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A2346F-353E-4015-8711-C8B66A842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C6BA75-0B94-4C91-937E-F179C9DFC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s up exciting opportunities for disease prevention and cure, but what dangers might it bring forwar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681C25-0093-42CB-B423-49CD8506B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791638-646C-40C1-A56C-839C35527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A82F1A-45AA-49C3-A6B5-31F74B6EF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571BB8-0939-4484-87D8-496DC1637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71B6BE-94A9-421B-AD48-01F7149D2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C63-53BB-496D-98A1-6D7B157C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D44-E9D9-4116-8710-8A41427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326-AA5B-4C00-A2FA-66310D45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874-FF7D-4698-8CEE-01EE5762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F76-03A6-4F0A-96D2-DEBF2057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A78-F18B-497D-9BCD-BA03A047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C01-9CE7-458B-96B0-860425D5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A1E-87B3-4655-8B62-75643397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456-4E7A-4E7B-BCDB-B4F567EA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F98-2328-4DEB-B54E-1DCA684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D90-73B9-4F96-B729-C055DD6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003-E95D-4B36-B062-C6096C0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5BAC-0B73-4A74-B3DB-B898971CCE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HRA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187280" y="41608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me the king who fought a Civil War with the bar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67400" y="54324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a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0" y="54324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Elv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144080" y="61419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n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335560" y="6141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55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3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6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9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22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38080" y="421164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ow did John raise money which upset the bar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068480" y="54324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l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335200" y="61722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ld bin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066680" y="6095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tit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365800" y="540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Raised taxes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John refused to change, the barons captured which cit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67400" y="5384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Liverp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334840" y="5384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Shef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67760" y="6124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5365440" y="6093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ard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35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John refused to change, the barons captured which cit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067400" y="5384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Liverp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334840" y="5384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Shef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335560" y="61246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ardi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067760" y="61246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4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did barons force John to sign which described the rights of freeme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069200" y="5384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Magna Ca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338080" y="538488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ayeux Tapes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067400" y="6124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ospital b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436720" y="6165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ook of shad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7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54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did barons force John to sign which described the rights of freeme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069200" y="5384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a Ca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338080" y="538488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ayeux Tapes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067400" y="6124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ospital b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35200" y="61246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Book of shad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539640" y="425592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time who has come to rule the countr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63" name="Oval 5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8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068120" y="53830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336640" y="53848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068480" y="6124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K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337000" y="61246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osh and B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8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425592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time who has come to rule the countr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068120" y="5384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295240" y="5373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68480" y="61246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K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337000" y="61246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osh and B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7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6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425592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ne of the terms of the Magna Carta stated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hn was not to interfere with …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069920" y="53830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335200" y="5384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68480" y="6124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New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336640" y="61246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hurch ma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6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39640" y="425592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of the terms of the Magna Carta stated tha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n was not to interfere with …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069920" y="53830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335200" y="5384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068480" y="6124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New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5336640" y="61246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urch ma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990720" y="42116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is John supposed to have murder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144080" y="5410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Mr. Bu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5200" y="53848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is neph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1144080" y="60958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411880" y="6095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is Fa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99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4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6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5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187280" y="414972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me the king who fought a Civil War with the baro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068480" y="5384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Jame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293800" y="54450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Elv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335560" y="6141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144080" y="61419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n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02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2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990720" y="42116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is John supposed to have murdered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144080" y="5410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Mr. Bu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335200" y="53848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His neph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144080" y="60958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411880" y="6095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His fa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would make sure John would keep his promise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044360" y="5445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042920" y="616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5 Wi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364720" y="6165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Vicky Poll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7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14" name="Oval 8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6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5326200" y="54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5 Bar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1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7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3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64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838080" y="4211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would make sure John would keep his promise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044360" y="5445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042560" y="61657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5 Widow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364720" y="6165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Vicky Poll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5326200" y="54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25 Bar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826920" y="4292640"/>
            <a:ext cx="7467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"/>
              </a:rPr>
              <a:t>One of the terms of the Magna Carta states that who will inherit without interference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097280" y="54309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i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362920" y="544500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Charlotte Chu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097280" y="617220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Towns peop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364000" y="6172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erch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31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25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8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4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34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25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097280" y="6172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Towns peopl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364000" y="6172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erch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097280" y="54324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Wi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826920" y="4365720"/>
            <a:ext cx="7467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"/>
              </a:rPr>
              <a:t>One of the terms of the Magna Carta states that who will inherit without interference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362920" y="544500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Charlotte Chu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838080" y="4221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storians have described the Magna Carta as the most ‘………. Document in English history?’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067760" y="54324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ingi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334480" y="5432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066680" y="617220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Importa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5334480" y="6172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el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47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5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4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7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3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50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5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00000" y="4221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storians have described the Magna Carta as the most ‘………. Document in English history?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067760" y="54324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Mingi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334480" y="5432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334480" y="61722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el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106668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838080" y="41911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other term stated that who was to have fair taxat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067040" y="54324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orth 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333760" y="543240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ewport peo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067760" y="61722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o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334840" y="61722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ur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63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1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7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6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38080" y="41911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is the genetic make up of an organism known a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067040" y="54324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orth 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333760" y="543240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ewport peo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067760" y="61722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No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5334480" y="6172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838080" y="42116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did King John die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067400" y="5432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2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334840" y="5432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9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06740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0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533484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2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79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1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4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011240" y="4160880"/>
            <a:ext cx="72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ohn’s brother was called Richard the …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335560" y="5432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eg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068480" y="6172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P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35560" y="61419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7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043280" y="5445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ionhe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6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9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282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068480" y="5432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232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4840" y="5432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19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106740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203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5334840" y="617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12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838080" y="42116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n did King John di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043280" y="5445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Lionhe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335560" y="5432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eg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68480" y="6172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P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335560" y="61419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Li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1011240" y="4160880"/>
            <a:ext cx="72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ohn’s brother was called Richard the …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690560" y="416088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ich country did John go to w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ain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067040" y="54324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upi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334840" y="5432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067760" y="6172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334120" y="61419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6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9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90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334840" y="5432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067760" y="6172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334120" y="61419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685880" y="416088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ich country did John go to w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ain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067040" y="54324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Jupi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539720" y="4184640"/>
            <a:ext cx="6305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ame the film which shows King John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s a ‘baddy’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068120" y="54309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  <a:ea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4480" y="5432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Batm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066320" y="61722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ladi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34120" y="614196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King Arth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8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03" name="Oval 9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9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2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06" name="Oval 4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79320" y="4184640"/>
            <a:ext cx="621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ame the film which shows King Joh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s a ‘baddy’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068120" y="54309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Robin Ho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334480" y="5432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Batm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066320" y="61722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Gladi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334120" y="614196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King Arth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Millionaire 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838080" y="421164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How did John raise money which upset the barons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068480" y="54324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l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293800" y="61657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Held bin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6" descr="Millionaire Logo"/>
          <p:cNvPicPr/>
          <p:nvPr/>
        </p:nvPicPr>
        <p:blipFill>
          <a:blip r:embed="rId2"/>
          <a:stretch/>
        </p:blipFill>
        <p:spPr>
          <a:xfrm>
            <a:off x="304920" y="74520"/>
            <a:ext cx="76176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Oval 7"/>
          <p:cNvSpPr/>
          <p:nvPr/>
        </p:nvSpPr>
        <p:spPr>
          <a:xfrm>
            <a:off x="3200400" y="53352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00336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9900"/>
                </a:solidFill>
                <a:latin typeface="Arial"/>
              </a:rPr>
              <a:t>£1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095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Sold tit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365800" y="540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Raised taxes</a:t>
            </a: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RA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0:06:22Z</dcterms:created>
  <dc:creator>Owner</dc:creator>
  <dc:description/>
  <dc:language>en-US</dc:language>
  <cp:lastModifiedBy>IT User</cp:lastModifiedBy>
  <dcterms:modified xsi:type="dcterms:W3CDTF">2011-05-30T16:59:21Z</dcterms:modified>
  <cp:revision>54</cp:revision>
  <dc:subject/>
  <dc:title>Slide 1</dc:title>
</cp:coreProperties>
</file>